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6.gif" ContentType="image/gif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DCC-543B-46EC-83E2-F80B1EC9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315-BED8-4C74-A346-C84CBF52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D89-04B0-4A41-98DE-1B74176D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2F9-8629-41AE-94A7-132FB99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59D1-6745-4E11-B058-FE76A83C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591-6366-4C48-AB75-06A351C1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63C-8C94-49D4-B1B6-CA3A6EE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15CB-4E30-4AA2-9AEC-2529C2F1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5971-E66A-4752-A9BF-3011C4FC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71A0-C3BB-45E3-A8D3-B4E623A6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59E6-BD38-4F4A-B936-517ACEAB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70B-CA09-4088-840A-4F936098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6DDB-AB52-4B57-9D51-B5EE135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B3AC-065A-4278-87BE-36356F9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D6A0-3F00-4E11-9B90-33A7A320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12DE-88AA-41E9-83A2-B0B6D1CC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307-22F0-4360-86F3-7F9AF1AB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40E6-A85C-4354-919D-AF67CAD3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7B8D-EFA1-4915-A913-DFDC12A8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5178-FE77-49FC-8534-123F600C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295A-7834-41C1-9148-6FCD2140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B9FF-1360-405F-8923-C38E0756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4BA-0E05-449D-BBF2-04803DF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DDE8-C322-4816-B17D-E07BAB4C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BCC3-B83A-429F-B894-74503CD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9844-68B6-4739-B792-A211AB9D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E5DB-DBB4-4B18-8E20-ABA6BF5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D0C1-1AC7-495E-8CDD-C627B70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7581-2316-41D8-98D5-AD477009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A795-AFEA-4C4D-A78B-66A393DA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0947-0BF6-461D-B138-4B681050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DF7D-FED7-4F84-8BA3-F8264465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CC058-778F-424A-BFE8-57BFAB86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280-6106-4183-A48D-DE88C123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F619-32CC-49E7-B100-8FBC45F2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E469-804D-4DF9-9E37-1D70A677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F284-8711-4890-BBB2-DB5858EC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9CAB-7036-4ABF-AA72-C13D81E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7F087-C11C-465B-9A5A-1B5A886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AF87-9CBA-4D43-8685-EC8128C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87ED-F5C4-4698-8967-B367ED45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F8D2-38B2-475F-BF74-1CF6C97F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DC30-9869-4D44-B426-ECFCDDFE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190F-AB4F-4DA7-87A4-9A4F2C3C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CF9-9172-4320-86AF-5D20F31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F6FAA-62F0-4DD1-A258-FFBB2021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0D94-3503-4B35-BABC-77005C1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534A-32F5-4DFD-8466-9797E732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538B-2D65-4FEC-BD2F-5E09341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8A83-2D90-4A6A-9A62-59A96297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E276-90ED-4F98-ACD1-AA9800B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4FCE-0A0D-42F6-8C8A-F3B30A9A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4430-CB5C-4738-A9D9-9F7A0A1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D4933-AC96-474F-A5A1-A0A93F30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6EFA7-C9AF-4CB4-AE3F-F10CF365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6A6-8586-4D80-9499-D477BE4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9188A-122F-4A5F-B763-433BECA1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2C525-AEC6-40E9-B61F-7A52F803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F4A4-CFA9-472B-B8A2-3170DCC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FE9D-E01B-485B-8F83-9BF17FBF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8FC9-4B83-4EBD-B0AE-3E423122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B3B4-F849-4514-9DCF-DD1FF3E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4372B-64CB-471E-8FAA-74479C44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5BD7-5966-4E21-B204-747A0CE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9699-E20C-4E06-8636-A0B3AA0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A223-7A30-481F-B685-69F8C6C3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113-71B8-453A-AA8B-BE0CD0C1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A5328-20A7-4E18-82C9-F818E696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492A-9218-43C6-B907-070F54D3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D9B2-BAFE-41FB-B467-C5C3ECFC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2EE0-9055-41D3-80D0-AA6E20B2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C87C-6EB7-4A9D-A1D8-7A0E0568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E4A4-04FC-4A5B-A4CC-81BD9DE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F2E9-802E-483B-AEF0-59A78F9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58BE-1BA0-4C98-9A2D-96334BD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16AC7-7F9B-448D-B6DC-5BAFA5BC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17252-9F23-4D02-8E97-1BAC107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351-6F14-4CEC-91C0-4C5043E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CDD9E-99FA-46A7-9A4E-6F17D7E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965F-4F19-4BFA-9BAB-C88CD27F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DE4EE-0B6F-4B6B-918C-F0673B9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0158-6945-495B-B3AB-EBD4EB5D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83EFC-3F5F-4DE6-8E4A-DCADE886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1E65-7E30-45DE-95DF-9B3079C5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B313A-93BF-4335-BF29-33E2F14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3510B-27E8-4732-B297-E1D0D314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8A2D9-C0D6-41BE-AE2B-C3974C5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7E11-D89B-43DB-9508-499F154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7FD-8A44-4545-84F3-0179BEF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277C-65AA-436B-ACB4-C38AD418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7CEA-C6C9-40CC-9882-CF7ED5A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04227-2D81-4D36-8DE8-FF36537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DDBE-D7CA-468C-BDDF-CA22657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D349-E63F-417E-BD4E-DC80BA7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C7BC0-C81E-40F1-AFA4-2F9ACD7B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5D0D3-A328-415C-84F6-99BA9B77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E1FC-2397-4497-ABD0-DAB4DB64AE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1AC-EC8D-4D3B-B2C1-794968F4079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CB7B-2D5F-4478-908D-B9CD5DB6BEB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0C84-A2D2-4E29-8457-7540C74917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AFB-EA9D-4F62-A1FB-85F81AAA35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DC3-B3BC-4A26-8919-3C8C9A8CDC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60C-22BC-4EA5-A7ED-CA3C857046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C908-BE08-4D4A-9CE0-30B77810BD5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2876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22408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286000" cy="2313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6064200" y="2971800"/>
            <a:ext cx="3079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363840" cy="2057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5905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334120" y="42696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019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349880" y="228600"/>
            <a:ext cx="2133360" cy="2425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22050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724280" y="0"/>
            <a:ext cx="2205000" cy="2482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257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287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5791320" y="762120"/>
            <a:ext cx="2571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http://4.bp.blogspot.com/-Q06yizijw0w/Tge6QhfGXuI/AAAAAAAABB0/6Mg5C1Or0FE/s1600/Muchas+Gracias+Gif+Animado-gracias.gif"/>
          <p:cNvPicPr/>
          <p:nvPr/>
        </p:nvPicPr>
        <p:blipFill>
          <a:blip r:embed="rId1"/>
          <a:stretch/>
        </p:blipFill>
        <p:spPr>
          <a:xfrm>
            <a:off x="2133720" y="609480"/>
            <a:ext cx="5243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6480" y="585720"/>
            <a:ext cx="8016840" cy="3595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34040" y="228600"/>
            <a:ext cx="2224080" cy="1897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800600" y="398520"/>
            <a:ext cx="2266920" cy="2038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443560" y="3200400"/>
            <a:ext cx="2028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4452840" y="519120"/>
            <a:ext cx="2028960" cy="1704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1743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5288040" y="434880"/>
            <a:ext cx="1743120" cy="199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20955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234040" y="609480"/>
            <a:ext cx="2095560" cy="1247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5313240" y="3200400"/>
            <a:ext cx="176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-231840" y="450720"/>
            <a:ext cx="8010720" cy="4164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865760" y="228600"/>
            <a:ext cx="1762200" cy="1933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209680" cy="1924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5791320" y="3186000"/>
            <a:ext cx="3124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4876920" y="34308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tretch/>
        </p:blipFill>
        <p:spPr>
          <a:xfrm>
            <a:off x="6629400" y="3124080"/>
            <a:ext cx="2071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03:45:35Z</dcterms:created>
  <dc:creator>System User</dc:creator>
  <dc:description/>
  <dc:language>en-US</dc:language>
  <cp:lastModifiedBy>System User</cp:lastModifiedBy>
  <dcterms:modified xsi:type="dcterms:W3CDTF">2012-02-06T19:23:35Z</dcterms:modified>
  <cp:revision>8</cp:revision>
  <dc:subject/>
  <dc:title>  Yo tengo la regla.     ¿Quién tiene el creyón?   </dc:title>
</cp:coreProperties>
</file>